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F82-1F86-4DAF-93A8-4397540F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E70-88DA-44C3-BD43-18484697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831-0784-4472-A317-AF7BAED3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C40-B569-4739-8745-6272FB6B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C6B-003C-42F3-9DC7-2B46FC5B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03F-62F6-494C-AD7A-289B6B94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248-3EC5-40FF-AB82-32255865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644-4E1A-4781-869A-BEBFF2C1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FF3-8E09-456A-97E5-106C45D1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A0F-B36C-43F0-B25E-B4DCF3D5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94C-AFAD-441F-A192-E552BF24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FE9-576A-44EF-8BA1-700177BA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7E99-1502-4623-9527-1268889DD98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彈琴歌唱讚美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raise H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彈琴歌唱讚美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raise H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彈琴歌唱讚美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Praise Hi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8:56Z</dcterms:created>
  <dc:creator> </dc:creator>
  <dc:description/>
  <dc:language>en-US</dc:language>
  <cp:lastModifiedBy> </cp:lastModifiedBy>
  <dcterms:modified xsi:type="dcterms:W3CDTF">2004-06-16T23:29:03Z</dcterms:modified>
  <cp:revision>1</cp:revision>
  <dc:subject/>
  <dc:title>彈琴歌唱讚美你 &lt;1/3&gt; Praise Him!</dc:title>
</cp:coreProperties>
</file>